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zorro-short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5A26-2E9A-4F7E-8C1A-727D7ED50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81C4-8A2F-473F-A1B6-65CCB704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2EC0-BFF3-46DB-8DBD-BAC6B4563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D0FE-215F-4E38-8070-3D408A0BC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8E70-7B32-465D-8AB2-01F1E65A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E142-8941-4050-A45F-7F9087C8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119A-C1CD-4867-BDB2-FFB63DA3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5520-1C03-4D11-A4C5-02F9B41A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3A68-0211-4668-9622-65510C88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C721-A0ED-4941-A6C9-1E823098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25E2-1ED6-4219-90FF-A65EF36F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58DE-EFE8-443E-820C-3E4AFB65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AFAA-EADA-44ED-8DAE-AB35FC02E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zorro-short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le Class Review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3000" y="1143000"/>
            <a:ext cx="6934320" cy="2590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eel of Fortu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2590560" cy="2406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zorro-shor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ve each student an index card with a number from 1-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ents are instructed to write a review question, math problem, or spelling word on their ca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he Spin Butt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the wheel hits the number on the index card, the student chooses who will receive the question on their ca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066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4344000">
            <a:off x="5714640" y="182880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14:24:23Z</dcterms:created>
  <dc:creator>Connie Campbell</dc:creator>
  <dc:description/>
  <dc:language>en-US</dc:language>
  <cp:lastModifiedBy>Connie Campbell</cp:lastModifiedBy>
  <dcterms:modified xsi:type="dcterms:W3CDTF">2006-02-20T23:01:23Z</dcterms:modified>
  <cp:revision>6</cp:revision>
  <dc:subject/>
  <dc:title>Wheel of Fortune</dc:title>
</cp:coreProperties>
</file>